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31131"/>
        <c:axId val="22584451"/>
      </c:barChart>
      <c:catAx>
        <c:axId val="23631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4451"/>
        <c:crosses val="autoZero"/>
        <c:auto val="1"/>
        <c:lblAlgn val="ctr"/>
        <c:lblOffset val="100"/>
        <c:noMultiLvlLbl val="0"/>
      </c:catAx>
      <c:valAx>
        <c:axId val="22584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31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B3D-F495-4080-A2FA-095A7DA3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6C9-7395-46E1-8CE0-7116D0B4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177-3E6D-4669-951A-1B754526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E4A-9F22-4240-84AA-045F0DB4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B71-79DB-4A19-BEB2-A5512119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013-9A9C-4199-98A8-4EABED1A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B6F-8104-490C-BC57-50FE5EA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FF6-C888-4D51-9773-2BC1024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77D-CCF7-4A69-AD6D-D5D794B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4E5-3884-4DA8-B91D-2D85FF9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1AE-124A-4B3D-BB6A-58082819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145-0744-4CA7-8472-7079DA4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3F17D-58A0-480E-A1D3-89B39D2D1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