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61488"/>
        <c:axId val="77051725"/>
      </c:barChart>
      <c:catAx>
        <c:axId val="96761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51725"/>
        <c:crosses val="autoZero"/>
        <c:auto val="1"/>
        <c:lblAlgn val="ctr"/>
        <c:lblOffset val="100"/>
        <c:noMultiLvlLbl val="0"/>
      </c:catAx>
      <c:valAx>
        <c:axId val="77051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1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3EB-F62F-45BC-8C77-D746D3F8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003-85A5-4759-879C-98DAF5E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37E-42DC-4071-8741-304E10F5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F00-6224-4134-BBE1-6D526C6F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617-1FA7-411E-BB89-6508B86D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1F8-FCED-4C79-A144-8A178A2D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DD2-5308-4D39-88B4-9D30B59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FA5-3118-49D8-8879-C7E0A6F0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99C-94DF-4249-8181-F75704E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B8C-0568-4C68-B094-7FE81AE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324-E8A6-43B6-A766-B15B63D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926-B749-4881-952E-67B1B32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668D0-BA5C-497B-B627-B2A7249030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