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70821"/>
        <c:axId val="70585713"/>
      </c:barChart>
      <c:catAx>
        <c:axId val="76370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85713"/>
        <c:crosses val="autoZero"/>
        <c:auto val="1"/>
        <c:lblAlgn val="ctr"/>
        <c:lblOffset val="100"/>
        <c:noMultiLvlLbl val="0"/>
      </c:catAx>
      <c:valAx>
        <c:axId val="70585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70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D2C-ECE3-4427-9DBE-D64DA3C1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A0B-DA6F-4ABB-935E-FCDC8F7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93F-3DE0-4AC9-9CDF-A33E904B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86D-0DAF-4440-9172-9E89A6FC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9E4-32C6-487B-8F55-F7448C3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47F-0457-4A63-8E77-01C37D0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F77-D31D-41E9-9031-9393FB3D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BC9-8D9C-4A78-AACC-7FAF8F81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660-41DC-43BF-A25B-17ED10AF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C75-5343-4A8B-AFF5-E2A3FEA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50C-9D43-40EB-B465-988C2F79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D53-F2B3-4C95-B5FE-884B98B8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C032C-DC2A-4E07-BD61-98C7581FA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