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39127"/>
        <c:axId val="61291287"/>
      </c:barChart>
      <c:catAx>
        <c:axId val="41439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91287"/>
        <c:crosses val="autoZero"/>
        <c:auto val="1"/>
        <c:lblAlgn val="ctr"/>
        <c:lblOffset val="100"/>
        <c:noMultiLvlLbl val="0"/>
      </c:catAx>
      <c:valAx>
        <c:axId val="61291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39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D71-D7DD-4695-A887-4907A4CB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716-68CD-4288-A8B6-09BAFF22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B6E-F9AE-4833-A829-0D0A04E1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705-B6C1-4BD9-A58C-F663C447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E6F-6C0E-47F1-A0B5-9169FE1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FF2-618E-4F75-AB9B-A2056F4F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BBE-61D7-49E1-9909-2832109A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CF8-76AB-4F64-9E56-55DBDBFA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BD8-C353-4944-833D-627042F5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5AA-E38D-4070-8133-0AA044EB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16A-2CBC-48E0-8995-AE45526D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064B-10ED-465C-9F55-8490B6C9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2F780-8324-4DEA-9D2F-BAEAACBDBD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