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59799"/>
        <c:axId val="24500357"/>
      </c:barChart>
      <c:catAx>
        <c:axId val="767597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00357"/>
        <c:crosses val="autoZero"/>
        <c:auto val="1"/>
        <c:lblAlgn val="ctr"/>
        <c:lblOffset val="100"/>
        <c:noMultiLvlLbl val="0"/>
      </c:catAx>
      <c:valAx>
        <c:axId val="24500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597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197F-D52B-4CA4-8C0C-1DD92257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D9E-E107-4DFC-9FB2-D4D6ED35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7FBA-FF2A-431F-955B-6DA85589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E00-1282-40A7-818A-F327BE29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B15E-6976-45E4-8610-721C7763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4B3-FDB1-415A-B82E-BA8A70A3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F8F9-CE7A-4797-A837-A627D426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971-E73B-4E56-9792-C8C88950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8EC-3D72-4491-9666-69104A3D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267-58F9-4F95-9D65-10A701E7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19BD-B1F3-44EF-816C-7ED2DF04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4A09-4A2A-46BC-8763-001AB8F0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14591-E441-4E76-A06D-71F9C23122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