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87441"/>
        <c:axId val="10852604"/>
      </c:barChart>
      <c:catAx>
        <c:axId val="75487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52604"/>
        <c:crosses val="autoZero"/>
        <c:auto val="1"/>
        <c:lblAlgn val="ctr"/>
        <c:lblOffset val="100"/>
        <c:noMultiLvlLbl val="0"/>
      </c:catAx>
      <c:valAx>
        <c:axId val="10852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87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E46-098C-419C-9CA4-E89C42EA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DC4-1897-4540-A386-0D1722C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5B2-4B1E-440F-B8DE-877E5D0F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207-CABD-40C8-9AE7-BE4D5230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74E-855D-4635-87FF-FB1C2894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C38-ECE4-4C2C-91F7-FE5D247D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42E-1886-4DBC-87A1-6AB7AB61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B8D-4F1B-408B-8D87-A28519B3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E4A-8F40-4CF0-834B-7046D77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AF9-C898-41C2-9AD2-FDB37A4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2C4-69C5-4D58-9ACF-C1E3DA19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163-FC16-4161-9F51-43BF376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10AE6-9E2B-4B7A-8E16-B33FE1292B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