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35545"/>
        <c:axId val="1404543"/>
      </c:barChart>
      <c:catAx>
        <c:axId val="65035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4543"/>
        <c:crosses val="autoZero"/>
        <c:auto val="1"/>
        <c:lblAlgn val="ctr"/>
        <c:lblOffset val="100"/>
        <c:noMultiLvlLbl val="0"/>
      </c:catAx>
      <c:valAx>
        <c:axId val="1404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35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E8F-DE26-48AF-B9C3-48D45845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91C-7BB0-4CCD-B045-485C017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CE0-BF80-4887-9519-24CF82DC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602-2D4C-4660-9838-5D406309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749-A39B-40F8-95CC-FD511D69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198-927F-4DB1-9FF4-C1A73F8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944-3136-4F66-9E8D-99023B0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9FE-6381-4DEC-8967-AB01D4E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530-DB97-46BA-8EBA-3524B33D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06B-8CC8-4671-AE0D-025C0D0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99E-5396-4918-8FA1-C7EEA21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11E-C41E-48D8-A2F3-41D734B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E7267-9A80-4C96-AFCD-0A83EAD0F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