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100232"/>
        <c:axId val="75290629"/>
      </c:barChart>
      <c:catAx>
        <c:axId val="541002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90629"/>
        <c:crosses val="autoZero"/>
        <c:auto val="1"/>
        <c:lblAlgn val="ctr"/>
        <c:lblOffset val="100"/>
        <c:noMultiLvlLbl val="0"/>
      </c:catAx>
      <c:valAx>
        <c:axId val="752906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002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7CB1-68A0-490C-A9B8-1BBA58BF6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E812-5B9A-46AD-B95A-65871563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FB75-9891-4C81-95F2-8E58D2578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6C35-3FD3-4DEA-9E6C-CF8F60497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7646-0A9E-44A9-AFC9-A78EC3D2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D670-3F10-4A4A-91DB-CBE55EB0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F677-99B6-4850-A2E5-11A87D42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4473-DC3C-4ADA-900F-CC973203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85E7-0AF2-470C-AE9A-68CF925A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2760-65D1-485B-961B-D0EAA212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2480-EAE4-43BC-873A-A0F7BFD4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5E5E-8878-4D97-9A94-929B54D1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39B10-81F0-42FE-B0D3-0976669BF2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