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09687"/>
        <c:axId val="47948083"/>
      </c:barChart>
      <c:catAx>
        <c:axId val="23609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8083"/>
        <c:crosses val="autoZero"/>
        <c:auto val="1"/>
        <c:lblAlgn val="ctr"/>
        <c:lblOffset val="100"/>
        <c:noMultiLvlLbl val="0"/>
      </c:catAx>
      <c:valAx>
        <c:axId val="47948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09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7F48-F357-4958-85B5-CC5CD3A8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38C-BBDC-4A6D-8CB5-94666B1C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1F9-6A49-4D7B-9810-EFB53FC0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1A9-B4D6-46A6-9FD8-50273641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A35-94A7-41EE-8723-DA605D7D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F1B-26AE-4809-A4C8-0025668F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944-0B65-42EE-BFD4-6A04C3DC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67E-8EA3-48C7-8B81-054CBB71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41A-F858-4920-BA87-2E7B2830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536-FC2E-4922-85B5-56832500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048-F55D-4C95-9B0D-F6139589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B96-CA61-452F-8489-BD75CE7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BB2FB-07FE-4CE8-92A9-A3CFF6D722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