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69052"/>
        <c:axId val="36384353"/>
      </c:barChart>
      <c:catAx>
        <c:axId val="86769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84353"/>
        <c:crosses val="autoZero"/>
        <c:auto val="1"/>
        <c:lblAlgn val="ctr"/>
        <c:lblOffset val="100"/>
        <c:noMultiLvlLbl val="0"/>
      </c:catAx>
      <c:valAx>
        <c:axId val="36384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69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586-6E09-4C5B-8D24-8DF528A1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B0D-F49E-4E9F-94CC-EF20EA17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652-385B-45B3-AC0E-0AAF7566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AAC-A72B-4BF7-8730-E55473D8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805-DB8F-4F94-93A4-12415CC9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EE2-FE82-44D9-BD07-D229B3C1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075-DCBD-4FB8-AE30-99798CE1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BE1-EF91-4BE6-8D28-F5FBC2C0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6C7-ABE5-4AA1-AC85-6C344922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491-B974-4A74-AC63-B895528F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F03-ED7B-4431-8804-09AE65F1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A0B-3399-4C41-A54E-386AB573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7C545-4117-4C81-A7AD-65EB906686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