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14564"/>
        <c:axId val="16531942"/>
      </c:barChart>
      <c:catAx>
        <c:axId val="80714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1942"/>
        <c:crosses val="autoZero"/>
        <c:auto val="1"/>
        <c:lblAlgn val="ctr"/>
        <c:lblOffset val="100"/>
        <c:noMultiLvlLbl val="0"/>
      </c:catAx>
      <c:valAx>
        <c:axId val="16531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14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284-3B95-42A6-9C90-E97801C6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CD4-AE63-47A5-839C-806120C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2B5-B58C-4004-A86F-02B2DC26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616-3817-4CBB-86C0-ADF9C6E3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667-97CE-4DCC-B24A-AF3763BE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CE5-6CEF-44A9-8277-9A04E013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D73-8632-4A3D-868C-A359BF9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A13-6182-4EAE-9A0E-D90FE46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1BE-B094-4607-B9B3-DE4519CD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9DE-8BDE-426C-B5A6-F4D59E0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6B6-F93B-44C7-9393-2F49229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66D-DD25-4C55-A419-656BF7B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5F28-C623-4808-B366-28CBE7E20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