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20136"/>
        <c:axId val="2840845"/>
      </c:barChart>
      <c:catAx>
        <c:axId val="37620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0845"/>
        <c:crosses val="autoZero"/>
        <c:auto val="1"/>
        <c:lblAlgn val="ctr"/>
        <c:lblOffset val="100"/>
        <c:noMultiLvlLbl val="0"/>
      </c:catAx>
      <c:valAx>
        <c:axId val="2840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0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B60-FE61-4179-A974-2965B13D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2A9-45D6-47A2-9B04-15AF4857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0B8-1015-489B-B965-84F34B48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348-1250-49B2-AD0E-2C97AAA5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350-F9A2-44EF-8F81-F007A211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02E-54E3-4B6B-97BD-5B298A21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BAA-68C8-4F8A-9AC4-073144EA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90C-2C2C-42BE-AB32-37EB6AB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063-3E25-45D9-8686-374D2097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2AC-E298-4586-A9D3-415B2E6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413-D014-484B-A548-FAC9C5EB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58A-1181-4430-AA94-AA580428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58D9F-9397-45E7-BB48-7BCEEC447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