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720663"/>
        <c:axId val="81412122"/>
      </c:barChart>
      <c:catAx>
        <c:axId val="647206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412122"/>
        <c:crosses val="autoZero"/>
        <c:auto val="1"/>
        <c:lblAlgn val="ctr"/>
        <c:lblOffset val="100"/>
        <c:noMultiLvlLbl val="0"/>
      </c:catAx>
      <c:valAx>
        <c:axId val="814121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7206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C1F8-F364-45B8-B0CE-88B516629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DA99-AFE5-4A31-88AB-4D281214E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AF24-BD4C-450A-8B1E-193E3CAEF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F45D-BA8D-4C64-9D12-15CFD4236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9210-797A-408C-A97E-6861EB445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3780-279C-49D4-8FB5-1F0F5B079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19E9-35DB-4AFB-ADCC-510BB7815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5BA0-5B14-4305-A0AB-ADACC9568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84E0-64F3-4B73-9416-D1F301B91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3762-A865-49A0-B383-9D87E529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E3DE-AB12-4FE7-A6D1-EFB5FB36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81A3-2966-4484-B2D7-A447CD08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5CFC90-4F5B-4038-A6EB-D0AB696DE3D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