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67307"/>
        <c:axId val="13597618"/>
      </c:barChart>
      <c:catAx>
        <c:axId val="75867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97618"/>
        <c:crosses val="autoZero"/>
        <c:auto val="1"/>
        <c:lblAlgn val="ctr"/>
        <c:lblOffset val="100"/>
        <c:noMultiLvlLbl val="0"/>
      </c:catAx>
      <c:valAx>
        <c:axId val="13597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67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5D3-000D-4DB7-BB1F-0231ED7D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964-FA5C-432D-9096-4F38DDA8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B23-8ECA-43DF-B579-66BE681B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826-3D8E-4283-870E-0A75EF5F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921-9C81-4E7B-A2D4-BB3693A8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8FB-C8A9-4319-9808-1F46E63B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CF8-251A-48B6-8D70-BAB5A610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8FF-DC0E-47E7-9D66-ADFC1972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218-347E-4C3E-A40A-FDAD71D5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60C-EC75-43F8-8CBD-706756E9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314-4E20-4236-B546-5650AD4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107-F23B-466F-B9B7-6DFFDDC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C53BB-5257-4877-BDAD-936DF004B2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