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38530"/>
        <c:axId val="29678105"/>
      </c:barChart>
      <c:catAx>
        <c:axId val="13438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78105"/>
        <c:crosses val="autoZero"/>
        <c:auto val="1"/>
        <c:lblAlgn val="ctr"/>
        <c:lblOffset val="100"/>
        <c:noMultiLvlLbl val="0"/>
      </c:catAx>
      <c:valAx>
        <c:axId val="29678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38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14B-E6A5-4FF8-8AE9-E681B593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013-A081-452D-853A-44FBD2A3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837-8E9A-4FFC-8DDC-1FFC9E64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8E7-272D-4762-883B-3D2107F5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A37-50A7-4D7A-A5AD-F4A7DCE7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CFD-EB2D-4C75-AFD0-C5C28E25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9D0-433C-4138-A294-2B078319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24B-43E6-4B78-AC87-95FB00FA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034-FAD4-4B11-9259-6A8F2A4D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58A-13A8-4630-8D19-D2AA4EBB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55F-5B9C-4F9F-9F5D-4116D0D8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66D-5FF8-49B8-B576-6A8E9BBA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FB931-530C-4211-88DC-4D804206F8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