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448701"/>
        <c:axId val="43365965"/>
      </c:barChart>
      <c:catAx>
        <c:axId val="624487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65965"/>
        <c:crosses val="autoZero"/>
        <c:auto val="1"/>
        <c:lblAlgn val="ctr"/>
        <c:lblOffset val="100"/>
        <c:noMultiLvlLbl val="0"/>
      </c:catAx>
      <c:valAx>
        <c:axId val="433659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487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182E-2BBF-438C-9F58-2836B11C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3FA4-ADDC-401C-AEF9-BE9C9830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29E0-9536-46E7-AAE2-773A2300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BA0F-20E6-49FD-9AEF-F58BB7F7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CDD0-E7B6-4EC3-8CA6-A85F1E37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3D2-6913-4FC4-ABA3-EA7F908B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B37-D890-48C0-A2A4-81717FC7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D598-4615-42F7-819F-B1C6E280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9CF-4DD3-46E0-9725-C25461EE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0C69-04D0-48CE-9859-7CE2CB47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205-7A11-4714-A37B-F485FB68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C316-0E45-45FC-93BA-F3806BD4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0A1AA-E059-4E57-87E1-31775F9CFA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