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5414"/>
        <c:axId val="676734"/>
      </c:barChart>
      <c:catAx>
        <c:axId val="34795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34"/>
        <c:crosses val="autoZero"/>
        <c:auto val="1"/>
        <c:lblAlgn val="ctr"/>
        <c:lblOffset val="100"/>
        <c:noMultiLvlLbl val="0"/>
      </c:catAx>
      <c:valAx>
        <c:axId val="676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5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9F2-96FA-4248-B190-DD2D23B3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9D9-9ABA-43E7-9825-0E144E3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03B-2C44-4FA9-8A48-11160FCF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BB0-43C6-4D9C-9D00-2A7B8D91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E9E-C11B-4B98-9B18-CB6C622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44B-A828-4787-B5A3-5BA64335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DC1-4033-4F40-8F6C-B3874A3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9E9-850C-4950-9B23-6F41512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B70-C052-4587-8E83-9597DB82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A8B-5940-4C16-AAA6-82EE76C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816-3D86-4E9F-A4CC-E2E9D86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BC2-9F16-4ED9-A06B-F05003C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8194D-6597-4796-BB94-8E6E5FF76B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