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5380768"/>
        <c:axId val="89831233"/>
      </c:barChart>
      <c:catAx>
        <c:axId val="2538076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9831233"/>
        <c:crosses val="autoZero"/>
        <c:auto val="1"/>
        <c:lblAlgn val="ctr"/>
        <c:lblOffset val="100"/>
        <c:noMultiLvlLbl val="0"/>
      </c:catAx>
      <c:valAx>
        <c:axId val="8983123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538076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ECD54-5DE1-4E44-819C-DCFB2F873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39C36-DD41-462E-853A-5A92AF0A5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F8C1E-30EC-4CDA-9720-5F2670438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FF014-A14F-492C-B22A-6A49A709C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0C873-02DC-49F0-BBB1-861A99CF8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C7AFD-DDEC-4CC3-932F-571CBDD46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ED4C8-5853-4525-A615-7107A4AF9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DD953-BBF5-44D2-82F2-FDFD5B234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A8053-0646-4E08-ADDA-F8F4A7559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BFA5F-CC05-4CEB-AC62-B1F08C690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79C9B-BC54-41F7-9D78-370BF3360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416A0-62B6-4834-8DAB-BDAAA456A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58E49A-7214-4951-B333-1B627C38335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