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52607"/>
        <c:axId val="63705207"/>
      </c:barChart>
      <c:catAx>
        <c:axId val="9755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5207"/>
        <c:crosses val="autoZero"/>
        <c:auto val="1"/>
        <c:lblAlgn val="ctr"/>
        <c:lblOffset val="100"/>
        <c:noMultiLvlLbl val="0"/>
      </c:catAx>
      <c:valAx>
        <c:axId val="63705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A3E-C7DB-4835-B5C5-05E6786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D57-71E0-4312-8927-E450BB1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2C5-F726-4ED1-A76C-DDA8366D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9E1-CC81-4867-A3F9-AAB61CB5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B11-C7FA-495A-A704-3CA4B98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5E7-C7D5-48CE-803E-CFEF09C3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96B-C9A4-4D93-B479-2C62C10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813-30BC-49E8-A990-31CD134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11A-0A16-4D2E-944E-696FE6B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765-E199-4259-B002-496FD4B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7FA-460E-4445-9D1A-5A30BB1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2B8-DBC4-4860-A91C-6D00225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0CB6-7B35-43D9-B040-FCC3353A9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