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74942"/>
        <c:axId val="73673139"/>
      </c:barChart>
      <c:catAx>
        <c:axId val="74874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73139"/>
        <c:crosses val="autoZero"/>
        <c:auto val="1"/>
        <c:lblAlgn val="ctr"/>
        <c:lblOffset val="100"/>
        <c:noMultiLvlLbl val="0"/>
      </c:catAx>
      <c:valAx>
        <c:axId val="73673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74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B07-99C8-4AD6-B158-A827F23B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134-111E-41CF-828C-75CC821A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E99-8DDC-4A0E-A113-392DF3D4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33E-AA6F-4F37-86F7-464B2658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BCD-FA39-4D8B-A5CE-6C6F7B7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7B6-1B61-4845-9AE8-DB116456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29F-7248-4025-8A2D-E3F9441C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ED2-B7A7-496C-8068-C20F2550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A12-C88C-41CD-BB3E-736AFED4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D91-4249-4509-B606-2D577015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030-9245-437D-A5AE-6EA4A7E9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663-474C-4D29-864E-EB07B13F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7106F-7C21-4AC8-862C-BA8C66E1B0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