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The%20Microsoft%20Sound.wav" ContentType="audio/x-wav"/>
  <Override PartName="/ppt/media/image2.png" ContentType="image/png"/>
  <Override PartName="/ppt/media/image3.png" ContentType="image/png"/>
  <Override PartName="/ppt/media/clap.wav" ContentType="audio/x-wav"/>
  <Override PartName="/ppt/media/driveby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LOGOFF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Custom Show 1" id="0">
      <p:sldLst>
        <p:sld r:id="rId3"/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EFF6-49C1-41CF-9434-5E7BC7DE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D252-63CC-4C89-8A0F-553A4B49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921B-BBE6-47B7-8378-790B121E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8A19-CDAE-4E06-8389-F87A835A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174A-E10E-4222-ACB1-1D402B24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E1E0-117A-4A2D-AB5D-BF40E375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2CC0-60E4-4E2A-BD78-5DFE1627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FCD6-A2D3-4AC0-AE0D-60E5E120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D522-BF1C-43B8-B6F7-7DC4C770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4989-AE0F-410D-BA05-77EF65F5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3AF5-205D-4730-AC74-F7A83F35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05A9-DE8C-4778-8633-E9327319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2F5B-03DE-4C8F-8B54-5DDC578A6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%20Microsoft%20Sou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OGOFF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" descr=""/>
          <p:cNvPicPr/>
          <p:nvPr/>
        </p:nvPicPr>
        <p:blipFill>
          <a:blip r:embed="rId1"/>
          <a:stretch/>
        </p:blipFill>
        <p:spPr>
          <a:xfrm>
            <a:off x="880920" y="704880"/>
            <a:ext cx="7380360" cy="54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The%20Microsoft%20Sou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driveb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carbrak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clap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" descr=""/>
          <p:cNvPicPr/>
          <p:nvPr/>
        </p:nvPicPr>
        <p:blipFill>
          <a:blip r:embed="rId1"/>
          <a:stretch/>
        </p:blipFill>
        <p:spPr>
          <a:xfrm>
            <a:off x="507960" y="376200"/>
            <a:ext cx="8126280" cy="61038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LOGOFF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" descr=""/>
          <p:cNvPicPr/>
          <p:nvPr/>
        </p:nvPicPr>
        <p:blipFill>
          <a:blip r:embed="rId1"/>
          <a:stretch/>
        </p:blipFill>
        <p:spPr>
          <a:xfrm>
            <a:off x="142920" y="160200"/>
            <a:ext cx="8858160" cy="6537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3:56:44Z</dcterms:created>
  <dc:creator>DirtySlesk</dc:creator>
  <dc:description/>
  <dc:language>en-US</dc:language>
  <cp:lastModifiedBy>DirtySlesk</cp:lastModifiedBy>
  <dcterms:modified xsi:type="dcterms:W3CDTF">2000-10-04T04:47:42Z</dcterms:modified>
  <cp:revision>2</cp:revision>
  <dc:subject/>
  <dc:title> </dc:title>
</cp:coreProperties>
</file>