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36669"/>
        <c:axId val="16465630"/>
      </c:barChart>
      <c:catAx>
        <c:axId val="50736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5630"/>
        <c:crosses val="autoZero"/>
        <c:auto val="1"/>
        <c:lblAlgn val="ctr"/>
        <c:lblOffset val="100"/>
        <c:noMultiLvlLbl val="0"/>
      </c:catAx>
      <c:valAx>
        <c:axId val="16465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36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8FA-F433-46BD-A752-EA5C8679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F29-1B05-4DA3-9031-55CA45D8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0DB-B412-402C-960F-38531E2F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458-270B-40AA-8888-31026E27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487-56E0-40A6-86CF-4B07C7F4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8B2-E897-4C62-A0DE-6D09840E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765-8259-47AF-9F6B-6C0D6461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811-6DD0-435E-B5A1-7A5D2356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EE2-6127-4252-881C-D1C356B1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9B0-C1BE-4778-A08F-262BDD0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9FC-46AA-40A3-BDA6-1C1E78B4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E3A-D4C6-4D99-AF14-47EB8F0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9CAA0-27A5-4E1F-B551-8B0B8F533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