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27156"/>
        <c:axId val="43832206"/>
      </c:barChart>
      <c:catAx>
        <c:axId val="63427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2206"/>
        <c:crosses val="autoZero"/>
        <c:auto val="1"/>
        <c:lblAlgn val="ctr"/>
        <c:lblOffset val="100"/>
        <c:noMultiLvlLbl val="0"/>
      </c:catAx>
      <c:valAx>
        <c:axId val="43832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7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8F00-BE55-48D5-8D6B-1C3119F7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DD3-40D3-4106-89B3-486A2782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705-F396-47D5-A073-873A4D7C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DC5-DB11-4573-9F99-6C7023B2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9FF-F2FA-4D0B-9E24-E442594F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DAD-C95E-4E88-84FF-40FE0549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0A4-179E-4ECA-B364-90C39FA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D1F-5CA4-4ACF-A093-EDDDB3B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F8B-2D5C-4002-832F-35E9611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A8A-EB6E-44C5-905C-663E75D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532-B905-4D6A-AD04-FAD89F0F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C91-FFA8-47CD-8FAD-316D5645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AA9E-82C1-4EA3-AAF5-9D43B5AAA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