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12544"/>
        <c:axId val="35033293"/>
      </c:barChart>
      <c:catAx>
        <c:axId val="222125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33293"/>
        <c:crosses val="autoZero"/>
        <c:auto val="1"/>
        <c:lblAlgn val="ctr"/>
        <c:lblOffset val="100"/>
        <c:noMultiLvlLbl val="0"/>
      </c:catAx>
      <c:valAx>
        <c:axId val="35033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125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F2B-CC8F-45BE-BE45-45D0233C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51F-1E3E-4F82-8F1C-4B5DB303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753-1475-465A-9626-8F0345AE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D61-C0C4-4B5F-A862-56C231B8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10DD-2AAE-417B-BFEB-89B1CAAB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8CA-47FD-42F9-B565-06830890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B75-BA05-49B1-8F7E-91CC2E74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605-EB73-455E-9B76-E8019AEF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8D5-2C86-4F0F-8C99-B9ADFC80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B776-0FF8-4E47-B8AF-269086E9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692-84ED-4BEE-9068-58BC8F00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590-3EB7-495A-97FE-9318C577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569EA-C026-480F-8CA0-CA2DFB413C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