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39414"/>
        <c:axId val="19255849"/>
      </c:barChart>
      <c:catAx>
        <c:axId val="95439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55849"/>
        <c:crosses val="autoZero"/>
        <c:auto val="1"/>
        <c:lblAlgn val="ctr"/>
        <c:lblOffset val="100"/>
        <c:noMultiLvlLbl val="0"/>
      </c:catAx>
      <c:valAx>
        <c:axId val="19255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39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4D4-351A-4809-B565-EA758AEC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C19-C3CB-433E-8CFB-3F8BC1D3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55C-F09B-44D6-A07F-49CC961D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311-E95D-4988-AE46-B345B7F2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C20-A94F-4839-B325-22DF7B3B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51C-1F62-4A57-84B2-3BB246AD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6AE-D7BF-4CE5-A5FE-89AC6F49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471-7D1A-4786-952D-E39F1826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B18-B42F-4C2F-B206-873D630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224-EDE7-4F23-8F45-6F57BCB1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5A5-7A44-406E-BF72-FBB7230A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AEF-D2DC-4B58-A476-8661E7F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D0A2F-C602-47B9-BDF7-25E5598123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