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468162"/>
        <c:axId val="92502483"/>
      </c:barChart>
      <c:catAx>
        <c:axId val="284681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02483"/>
        <c:crosses val="autoZero"/>
        <c:auto val="1"/>
        <c:lblAlgn val="ctr"/>
        <c:lblOffset val="100"/>
        <c:noMultiLvlLbl val="0"/>
      </c:catAx>
      <c:valAx>
        <c:axId val="925024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681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030A-D494-45F2-8550-73E5919D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FEDE-1664-495E-B316-6A00CA6E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A2CD-038D-4BED-BE60-C243E4DB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5E22-475A-4261-B67F-4C0FFD52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4703-A335-4110-B6B5-556A5138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4551-6846-4F7F-8E91-B531AF89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8E37-7BE8-4652-84A3-A8DE7C1C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B6EA-ADAF-47CE-B7DD-4D3F812C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5DCB-B1EC-4BF6-B852-06C4C83D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6319-00E1-496E-8E7E-4AFA0E47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62DB-7C36-47A0-AAAC-CA8A3C1C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04C3-EC40-4DB0-B08F-618F0881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D78B4-194F-4574-A3BC-CBB8B3C2AD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