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68103"/>
        <c:axId val="15282304"/>
      </c:barChart>
      <c:catAx>
        <c:axId val="81681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282304"/>
        <c:crosses val="autoZero"/>
        <c:auto val="1"/>
        <c:lblAlgn val="ctr"/>
        <c:lblOffset val="100"/>
        <c:noMultiLvlLbl val="0"/>
      </c:catAx>
      <c:valAx>
        <c:axId val="152823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81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5B11-0FBF-4171-9608-20BC54064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3F03-70F3-4004-A7E7-7C3BB638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4E27-914F-4070-BE58-DA9D03ABA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6645-D546-4F96-B410-2363C968C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2B06-F453-4026-8184-1D0F7FE8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D07E-43B4-43CA-97C5-DDF29992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9312-A6FA-4A9A-9AE0-57550BE2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5104-F336-4E0D-8C1E-79020E9B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815D-B705-44C4-8F27-1AB08DB5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15BE-B937-461F-A48A-4A3A9A20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1AA6-A305-477F-9D42-DD043F56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FEC3-553F-428E-832C-9B1C308B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491DF-23D6-4E3C-A329-7C5C33326A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