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25346"/>
        <c:axId val="56309211"/>
      </c:barChart>
      <c:catAx>
        <c:axId val="50625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9211"/>
        <c:crosses val="autoZero"/>
        <c:auto val="1"/>
        <c:lblAlgn val="ctr"/>
        <c:lblOffset val="100"/>
        <c:noMultiLvlLbl val="0"/>
      </c:catAx>
      <c:valAx>
        <c:axId val="56309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5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4CA-F15B-4977-A608-7D0FB18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E36-ECF4-4965-9629-36A24815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5A0-387F-47D3-9370-960DAD33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073-3D1D-4CD4-8202-7296B004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215-9219-40EA-9ACA-5731B88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F0E-409A-4BA0-BB16-AD2F5EB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B9C-7E76-4BF5-8490-38C8B0A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97F-E8EB-4965-9734-5994801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D7F-B25C-4761-8592-24A75EC9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E1E-BDA5-4022-B856-5953C11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22A-2311-40A6-8300-907F09C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AB0-75D5-4DFA-80D7-499D259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3D687-44F5-4F92-A70D-A70E6DDC95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