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08053"/>
        <c:axId val="9022695"/>
      </c:barChart>
      <c:catAx>
        <c:axId val="82308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2695"/>
        <c:crosses val="autoZero"/>
        <c:auto val="1"/>
        <c:lblAlgn val="ctr"/>
        <c:lblOffset val="100"/>
        <c:noMultiLvlLbl val="0"/>
      </c:catAx>
      <c:valAx>
        <c:axId val="9022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08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ECB-145C-4DE6-8E84-FB196405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EA0-CC22-4115-ABE9-4C6A0F8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3B6-D0C8-4179-B8C7-88E93854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E1C-E6ED-4A70-8D79-F6AC556D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4DE-17AF-4F76-A5DF-696B424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619-1C1B-48C5-BA0C-8F370AB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A21-1857-4C00-9F64-878D1D7E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3E6-E1FE-458D-A18C-408AF71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59E-DCC9-4FD7-BA7C-6259BB2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A34-8E6E-4477-BFBB-E711E11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3EC-8DAB-4568-B2C0-4A736DF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C97-9BC2-4A90-A4DB-173B1BB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2EF9A-1602-43EE-BC1B-AFAF013AB3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