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48879"/>
        <c:axId val="63234841"/>
      </c:barChart>
      <c:catAx>
        <c:axId val="90948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34841"/>
        <c:crosses val="autoZero"/>
        <c:auto val="1"/>
        <c:lblAlgn val="ctr"/>
        <c:lblOffset val="100"/>
        <c:noMultiLvlLbl val="0"/>
      </c:catAx>
      <c:valAx>
        <c:axId val="63234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48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5CE-0721-4B46-8173-F30862EE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43C-2FC8-4C96-89DA-D6BB901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084-A602-419D-AFD3-37483D07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634-17F5-41AA-BF69-595CE5C7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BE2-24E9-4222-A0F2-D5E82E9D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015-0877-4FF4-B2A4-C9C908D8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03A-0BB4-410C-B1FA-0231340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21D-5323-440E-A9B5-2D54D0F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F3E-2683-42C3-8450-CD09E6F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0BF-6BE6-4AD3-BD73-184AAB3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40E-66E3-4A18-846E-98DF296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F41-2D28-4E16-ADE6-864E44DB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81AF0-75E9-4E10-AA16-746B93F8BB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