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94518"/>
        <c:axId val="99662105"/>
      </c:barChart>
      <c:catAx>
        <c:axId val="85494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62105"/>
        <c:crosses val="autoZero"/>
        <c:auto val="1"/>
        <c:lblAlgn val="ctr"/>
        <c:lblOffset val="100"/>
        <c:noMultiLvlLbl val="0"/>
      </c:catAx>
      <c:valAx>
        <c:axId val="99662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94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126-B977-4A1B-B884-A26A76FB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AD8F-358B-4A66-8FFF-DD91D037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7C17-9D34-4BA7-9C9A-4F2D649D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13E-B19F-4FA9-9289-1E5A3AA8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FC5-1E4C-477E-9F27-5669ADF7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2A1D-D7BB-469F-9331-9B179C7C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CE6F-219F-4E2B-A484-A60581B7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E3BD-1352-41CF-A354-20E13FF1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4B5C-2F40-4AB8-9AB7-32623B25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DDDC-5915-4ED0-A5BF-2BD916CB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9C63-18C5-47CF-8B51-1480FE68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72BA-58DF-4398-A408-1F079D3D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B5D20-C5C3-4355-B7F9-FE35D62587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