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59018"/>
        <c:axId val="14292468"/>
      </c:barChart>
      <c:catAx>
        <c:axId val="72459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92468"/>
        <c:crosses val="autoZero"/>
        <c:auto val="1"/>
        <c:lblAlgn val="ctr"/>
        <c:lblOffset val="100"/>
        <c:noMultiLvlLbl val="0"/>
      </c:catAx>
      <c:valAx>
        <c:axId val="14292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59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228-42A3-4649-9C0D-5049D2F1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DBC-6D30-425F-B834-DA8CCE7D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653-E14B-467D-A77C-A36E34CF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9C3-F850-49DF-89A5-7298C77A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FD0-1AB3-4C82-8A48-A20387E3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58A-4B17-4DA9-BF42-775EA6F0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531-FEE9-4B4E-B582-7F3E73BF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3FF-D49E-483C-A0CD-5AD49A1F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0B6-3C57-44A0-B430-2B622263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41F-40D9-424E-A067-2C9CDC47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D03-F93C-47B6-9F77-558AC920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A1F-C85E-4160-8CD0-32DC3351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1BAF1-8C70-49FF-890B-AAF63963CB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