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92246"/>
        <c:axId val="80793935"/>
      </c:barChart>
      <c:catAx>
        <c:axId val="64192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93935"/>
        <c:crosses val="autoZero"/>
        <c:auto val="1"/>
        <c:lblAlgn val="ctr"/>
        <c:lblOffset val="100"/>
        <c:noMultiLvlLbl val="0"/>
      </c:catAx>
      <c:valAx>
        <c:axId val="80793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2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AFC-2B77-403C-97B2-3B213EB6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08D-5455-4151-9301-6315341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3D7-5156-4355-AF21-54734EAF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520-7596-46F4-B40A-2D346B53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A33-5445-4B6F-A614-BB177D2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360-DFA8-4469-8478-3E55313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5E0-9FFD-4517-888C-BDC4812E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D81-A0C0-40A2-8A23-FB65FF5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119-A134-402F-8471-CF090D2A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56F-EFB3-4460-979F-50FC0D1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204-2225-4327-A674-F5812C3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D1-E0AC-4361-88BA-7578355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2FCA3-B3BC-4B0F-946E-26632EF99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