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366138"/>
        <c:axId val="61247403"/>
      </c:barChart>
      <c:catAx>
        <c:axId val="453661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47403"/>
        <c:crosses val="autoZero"/>
        <c:auto val="1"/>
        <c:lblAlgn val="ctr"/>
        <c:lblOffset val="100"/>
        <c:noMultiLvlLbl val="0"/>
      </c:catAx>
      <c:valAx>
        <c:axId val="61247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66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888-7CBC-4816-A27B-8BDFAA9B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800-BFC9-4983-8140-6200244E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B88-A3D4-4839-8729-F2152FC1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20B-A38C-427A-B09D-816CA498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EDD-2A6A-4B10-8AA5-7EB51C78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358B-3C3E-4A54-A1A4-F5D7B6EC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DCA-1D65-450E-B433-2780396A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2E8-2966-44E8-8B36-92EAB450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553-CD12-471F-89BD-E0A442F2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0A9-40F2-4906-8925-1CC97522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A17-764B-4ACD-BC86-82859B7B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044-7616-4513-A072-330389D8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F33FA-4117-4606-B7CD-3503060B94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