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58777"/>
        <c:axId val="28580617"/>
      </c:barChart>
      <c:catAx>
        <c:axId val="98158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0617"/>
        <c:crosses val="autoZero"/>
        <c:auto val="1"/>
        <c:lblAlgn val="ctr"/>
        <c:lblOffset val="100"/>
        <c:noMultiLvlLbl val="0"/>
      </c:catAx>
      <c:valAx>
        <c:axId val="28580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58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2B5-105B-4C66-A22A-B664D374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B56-0EF9-4062-BF54-290B667A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86C-2472-452C-96E4-49FB6B35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5BF-494F-4247-9DA6-4098F9B2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F64-43A9-41CD-9996-B14AC5DC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DDC-918F-4913-93EF-9565510F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35D-0BB9-4555-993F-83D2B222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EC0-D981-4413-B63D-932763D9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F9A-97DF-4D98-AEA2-FA487622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B23-4A94-4D89-81AF-01587BBD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286-BFDE-45B9-916C-BECE5C68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338-62C5-4310-9D8B-674792F2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A3B24-0FDC-4BC6-AC21-78360D17DE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