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15446"/>
        <c:axId val="72155953"/>
      </c:barChart>
      <c:catAx>
        <c:axId val="14154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155953"/>
        <c:crosses val="autoZero"/>
        <c:auto val="1"/>
        <c:lblAlgn val="ctr"/>
        <c:lblOffset val="100"/>
        <c:noMultiLvlLbl val="0"/>
      </c:catAx>
      <c:valAx>
        <c:axId val="721559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154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B904-5BB9-4558-9B65-48E692AA1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3547-1C7A-4860-948C-9D57333C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C201-C91D-4E80-BC9B-6C877EFF9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253A-B2E2-48C1-BEA4-CEC3DE050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0B95-F6DB-4EDA-A7CA-91CEF453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90D5-94C7-4AF6-93C8-21576495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5901-FF78-4168-88B2-DF5E9D63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AC3D-5A60-4660-A1A9-6DE958D7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CD25-4D60-4E7A-80BA-185875D8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E3C5-5C8C-4767-A9EB-C6DB5A2A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1131-D555-4424-A46E-34F0DC2A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CBC2-2C88-49E9-BA2E-AD229CCF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A56DC2-3B00-43EA-834F-6DB027EF79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