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F211C3-93F1-4466-966D-57F74F044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213F2-7449-4208-9626-F7742F8B8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2E979F-E15B-45C7-88E8-4762A11186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0E4CF4-A8D6-4230-8B64-577DB5E6E4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6F1E0-8080-4689-ADF2-44056FC83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4976A0-376D-482A-8546-C549AF12BD3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8B2414D-3642-436F-AA5A-1BAE0B5551A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46C2D91-CE61-49BC-80B5-EA36001928C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BF02A22-BB6F-4B83-8B6A-8067B345C98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71A5B569-9BC0-4F99-A301-71B6B934D9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C73F3-FB7A-4D5A-A8BC-C72477E24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7B25241-9A54-4DE1-AF1E-76077629D58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99034C0-905B-43B8-927A-EB47B43FBF5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006612B-B3EF-4E42-B7EA-F42DA182215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7E8428D-6D26-4C7A-BCB2-E5362F3F3C9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D3AD838-0247-48D7-BA71-925DC0C49C8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AE76768-422F-4509-9957-03474766DFA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EA146A3-554D-4400-AB08-B04743672A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CC62C-7A02-42C8-B7EF-F77F91770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C0535-AFD1-44BE-BE52-18628B73D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2C6F3-9E13-409E-A090-2CC77CB42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6ED1F-D9B4-4BEB-9B98-81F3E92EB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B5179-4969-4F6C-BBCB-788BBA127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0BFB6-9FA1-4F16-A501-D1522D55B6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BDC70-6859-43DC-BA69-58CBA0EDE616}"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3D66B-E9A1-4CE0-BE67-F86ACF622C4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9A514-BECA-41D4-A62A-6BE3057E4B6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BA32C-B849-4245-ADA7-9F6E5EA6256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BEEAB-E4E2-4DDC-B9D0-961DDD47753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14396-1939-4FC9-BE87-F453DAE83AD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C5303-7148-4D01-9129-478C175F095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8FF37-1188-42FC-B3DD-1E2F4B20CA3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02C15-CD47-4A95-AE58-F3FD42733B8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42F31-4DF0-49D8-BB82-3D33A2B3DC1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DA228-054B-4822-89C4-214E110EB37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Linux, DO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2AEA5-8323-41DB-933D-DB0354DCCAC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CCB46-946D-4B92-92A5-55C20C7A71D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EAA46-D667-4CA7-8C76-97E42A18CC3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DF375-713A-489F-AD69-FE883325C27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66F46-B28F-4230-B458-C1BD0624B06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01C72-2BC3-455A-A341-ECA4B1E43D8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3DDD5-4DA6-4D7B-A7E2-5338A24574A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52E43-3ABC-4D4E-AC70-414BBB6983D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A0516-E6BD-4C98-933F-F33BD23AEA7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C37D1-864E-4032-9FD4-37CE344FC6D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0988F-E511-4400-BF98-276CD58837D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55CCF-C865-4B87-BBB6-B3BFFF3819F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AD6B5-CE11-4F85-A57B-C47F57753B7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FB32D-BABB-48EC-9EE1-D2E4EF66151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F576F-021D-4642-B171-0941FC1C69A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67"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68"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7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 descr=""/>
          <p:cNvPicPr/>
          <p:nvPr/>
        </p:nvPicPr>
        <p:blipFill>
          <a:blip r:embed="rId1"/>
          <a:stretch/>
        </p:blipFill>
        <p:spPr>
          <a:xfrm>
            <a:off x="2805120" y="2357280"/>
            <a:ext cx="3533760" cy="667080"/>
          </a:xfrm>
          <a:prstGeom prst="rect">
            <a:avLst/>
          </a:prstGeom>
          <a:ln w="0">
            <a:noFill/>
          </a:ln>
        </p:spPr>
      </p:pic>
      <p:sp>
        <p:nvSpPr>
          <p:cNvPr id="272"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s &amp; is Operator</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s</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E7A3C-AB7D-439C-977D-A5D8C1DE913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77"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s 1 &lt; 2 then 'valid' else 'invalid' s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15EE3-7BB0-491C-8A3B-7AF678C9F4F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44566-B1FB-4111-A2B9-EE5CBA7E1D1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7"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8" name="Picture 2" descr=""/>
          <p:cNvPicPr/>
          <p:nvPr/>
        </p:nvPicPr>
        <p:blipFill>
          <a:blip r:embed="rId1"/>
          <a:stretch/>
        </p:blipFill>
        <p:spPr>
          <a:xfrm>
            <a:off x="2805120" y="2357280"/>
            <a:ext cx="3533760" cy="667080"/>
          </a:xfrm>
          <a:prstGeom prst="rect">
            <a:avLst/>
          </a:prstGeom>
          <a:ln w="0">
            <a:noFill/>
          </a:ln>
        </p:spPr>
      </p:pic>
      <p:sp>
        <p:nvSpPr>
          <p:cNvPr id="289"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2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9BFDE-8705-417C-B225-1162716639B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BF518-83B1-49DD-9AEE-4656DCEB3A6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7B1CF-EB15-4DA7-8A7E-805CF7A73BB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D4A1B-ED07-4ACB-8D72-FEA1EFF883E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03"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0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56FC9-DE2C-486A-8653-D1A2D3F6284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9D841-2A06-4748-A271-127F623FCF9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F4049-A88A-471C-9709-E2EC57206C5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E21EF-A440-405E-A243-ED74DDD75D8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2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F53F9-0551-43E5-B03E-53A75FDFC41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2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6A01A-455E-46B8-AA25-438A4888411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8BFB3-0D97-4B7E-9A97-0199C15E70A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87014-C47C-4666-868E-150389D26EB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431C2-5054-405A-AD94-A99DD74472E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316F0-CD21-4F75-8EA4-F200412D31D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39"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2" descr=""/>
          <p:cNvPicPr/>
          <p:nvPr/>
        </p:nvPicPr>
        <p:blipFill>
          <a:blip r:embed="rId1"/>
          <a:stretch/>
        </p:blipFill>
        <p:spPr>
          <a:xfrm>
            <a:off x="2805120" y="2357280"/>
            <a:ext cx="3533760" cy="667080"/>
          </a:xfrm>
          <a:prstGeom prst="rect">
            <a:avLst/>
          </a:prstGeom>
          <a:ln w="0">
            <a:noFill/>
          </a:ln>
        </p:spPr>
      </p:pic>
      <p:sp>
        <p:nvSpPr>
          <p:cNvPr id="341"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208FA-9A80-43CF-A0B7-FAC6423DBEB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46"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349AE-DB33-49D5-AE0A-9EA6CC4A84B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89349-C86B-4E87-8D95-1AE975F6F1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783E1-9155-4ECE-B69D-A9C45FCF215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5AE2C-324B-4D06-A357-1128DD25D4D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BE577-1A2E-4E7D-ACC1-195CF879221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52589-42DE-401A-B44F-D50748234FD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7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38EF1-4A60-4AA5-B20E-4CF6FEA4A89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75"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4F89F-F8AC-40F3-8131-7E47C2A5988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hteck 5"/>
          <p:cNvSpPr/>
          <p:nvPr/>
        </p:nvSpPr>
        <p:spPr>
          <a:xfrm>
            <a:off x="900000" y="207324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6FD22-775E-4C2B-B137-ED4EC312992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3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71432-3EB8-4ECF-9893-45B6D714826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3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9A3BA-A412-4C99-AB47-B294889714F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3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3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3C7EE-1E2D-4081-A4D8-035FA873130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9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2" descr=""/>
          <p:cNvPicPr/>
          <p:nvPr/>
        </p:nvPicPr>
        <p:blipFill>
          <a:blip r:embed="rId1"/>
          <a:stretch/>
        </p:blipFill>
        <p:spPr>
          <a:xfrm>
            <a:off x="2805120" y="2357280"/>
            <a:ext cx="3533760" cy="667080"/>
          </a:xfrm>
          <a:prstGeom prst="rect">
            <a:avLst/>
          </a:prstGeom>
          <a:ln w="0">
            <a:noFill/>
          </a:ln>
        </p:spPr>
      </p:pic>
      <p:sp>
        <p:nvSpPr>
          <p:cNvPr id="39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5FA66-E9B7-4DFB-9304-50FDC19388F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0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270B1-694C-477A-86DB-79BB6EEA1EA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0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2" descr=""/>
          <p:cNvPicPr/>
          <p:nvPr/>
        </p:nvPicPr>
        <p:blipFill>
          <a:blip r:embed="rId1"/>
          <a:stretch/>
        </p:blipFill>
        <p:spPr>
          <a:xfrm>
            <a:off x="2805120" y="2357280"/>
            <a:ext cx="3533760" cy="667080"/>
          </a:xfrm>
          <a:prstGeom prst="rect">
            <a:avLst/>
          </a:prstGeom>
          <a:ln w="0">
            <a:noFill/>
          </a:ln>
        </p:spPr>
      </p:pic>
      <p:sp>
        <p:nvSpPr>
          <p:cNvPr id="40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95AD3-C9FB-44B6-8FBD-05E8B7EACC1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0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amp;&am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with</a:t>
            </a:r>
            <a:r>
              <a:rPr b="0" lang="en-GB" sz="2000" spc="-1" strike="noStrike">
                <a:solidFill>
                  <a:srgbClr val="000000"/>
                </a:solidFill>
                <a:latin typeface="Arial"/>
                <a:ea typeface="Arial"/>
              </a:rPr>
              <a:t> or </a:t>
            </a:r>
            <a:r>
              <a:rPr b="0" lang="en-GB" sz="1800" spc="-1" strike="noStrike">
                <a:solidFill>
                  <a:srgbClr val="000000"/>
                </a:solidFill>
                <a:latin typeface="Courier New"/>
                <a:ea typeface="Courier New"/>
              </a:rPr>
              <a:t>readlib</a:t>
            </a:r>
            <a:r>
              <a:rPr b="0" lang="en-GB" sz="2000" spc="-1" strike="noStrike">
                <a:solidFill>
                  <a:srgbClr val="000000"/>
                </a:solidFill>
                <a:latin typeface="Arial"/>
                <a:ea typeface="Arial"/>
              </a:rPr>
              <a:t> functions, e.g. </a:t>
            </a:r>
            <a:r>
              <a:rPr b="0" lang="en-GB" sz="1800" spc="-1" strike="noStrike">
                <a:solidFill>
                  <a:srgbClr val="000000"/>
                </a:solidFill>
                <a:latin typeface="Courier New"/>
                <a:ea typeface="Courier New"/>
              </a:rPr>
              <a:t>with 'calc'</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2BE7A-D81D-4B0A-9CBF-38896C3676A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07F4A-54A0-491C-B233-FDC1B6157E5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3918C-3FB8-4B31-B56B-3E2BA214445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0" name=""/>
          <p:cNvGraphicFramePr/>
          <p:nvPr/>
        </p:nvGraphicFramePr>
        <p:xfrm>
          <a:off x="900000" y="1727280"/>
          <a:ext cx="7858080" cy="25606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79774-AD07-4976-9F6F-3452FE400CF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03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FE5B3-B102-4F7B-B4A5-177191215A1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28" name="Picture 2" descr="Manual"/>
          <p:cNvPicPr/>
          <p:nvPr/>
        </p:nvPicPr>
        <p:blipFill>
          <a:blip r:embed="rId1"/>
          <a:stretch/>
        </p:blipFill>
        <p:spPr>
          <a:xfrm>
            <a:off x="6143760" y="1643040"/>
            <a:ext cx="2857320" cy="2143080"/>
          </a:xfrm>
          <a:prstGeom prst="rect">
            <a:avLst/>
          </a:prstGeom>
          <a:ln w="0">
            <a:noFill/>
          </a:ln>
        </p:spPr>
      </p:pic>
      <p:pic>
        <p:nvPicPr>
          <p:cNvPr id="42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Windows, and Mac OS X, the respective installer automatically installs and sets up Agena. 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version is included in the manual.</a:t>
            </a:r>
            <a:endParaRPr b="0" lang="en-US" sz="20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gena has been compiled successfully in OS/2 and Haiku in the past.</a:t>
            </a:r>
            <a:endParaRPr b="0" lang="en-US" sz="1800" spc="-1" strike="noStrike">
              <a:solidFill>
                <a:srgbClr val="000000"/>
              </a:solidFill>
              <a:latin typeface="Calibri"/>
            </a:endParaRPr>
          </a:p>
          <a:p>
            <a:pPr marL="343080" indent="-343080">
              <a:lnSpc>
                <a:spcPct val="100000"/>
              </a:lnSpc>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9C265-BB6B-4FC4-9AAC-399DB0AAF83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56663-1341-451C-A84F-D9AF74F6A8A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412272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3-12-29T21:45:21Z</dcterms:modified>
  <cp:revision>444</cp:revision>
  <dc:subject/>
  <dc:title>Agena Language Summary</dc:title>
</cp:coreProperties>
</file>