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35956-2314-40CC-A80B-2E88D8793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AA3B6-F5AD-4058-9E4E-3102BD32D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E0C68-1D35-4F24-BA8D-BDF32635C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B596B-8D45-4A4E-A216-D17B788EB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FDA20-81A1-46D5-AB7E-6C7BE2E65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6E1EC8-2C76-4F4D-A423-1B149F4E677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7F1E11AD-FB49-4D34-9952-A91F450491C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60D58127-DBDC-4D0D-877C-68B6FD858E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9CBD85CE-0109-45BA-AA24-2A23D76E7A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396F0617-048B-4F68-8147-99A4FAA372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B9EC3-B1D0-41F2-B538-A34277542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AA1D2BC8-B7F8-41BA-A9D5-A6359AB1D0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18D64E9F-80D6-4A5B-9263-C01E460071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573A46E5-9908-4C7A-A6DA-197E785C4A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54EF8D21-B165-4BA8-8DA1-8BD0A6160FB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BE253D8E-1F11-43E8-84C5-4E9E2EA9019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5BB97FDD-E842-43D9-9E19-E0A24973B5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F2181553-1362-40D9-AF82-9E6CCBE781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CC655-68C5-4781-A07E-C83F31C98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2D635-0775-44E2-8820-F215709C9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4777E-2D6B-49CA-9567-51029FEA4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F4112-0BE0-4A4C-A80E-13B6F6766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8A17E-6D64-4894-9BE8-A91F05F1B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F1F2A-E1DD-42EA-AA09-B73C9DB66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D46A4360-FDCB-4D6D-9E20-2AF8D7596EF1}"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4A2668AA-8A53-49BF-8B4A-4AAA3F7FF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510158-F5AE-42E7-BCD3-13BC347B3B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55"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 A3 of the Primer and Reference.</a:t>
            </a:r>
            <a:endParaRPr b="0" lang="en-US" sz="2200" spc="-1" strike="noStrike">
              <a:solidFill>
                <a:srgbClr val="000000"/>
              </a:solidFill>
              <a:latin typeface="Calibri"/>
            </a:endParaRPr>
          </a:p>
        </p:txBody>
      </p:sp>
      <p:sp>
        <p:nvSpPr>
          <p:cNvPr id="5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AB820B-BA41-4516-920F-84FBB2A5AD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7"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97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4FE775-A329-4290-B800-E61FB212BA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1" name="Picture 2" descr="Manual"/>
          <p:cNvPicPr/>
          <p:nvPr/>
        </p:nvPicPr>
        <p:blipFill>
          <a:blip r:embed="rId1"/>
          <a:stretch/>
        </p:blipFill>
        <p:spPr>
          <a:xfrm>
            <a:off x="6921360" y="1859040"/>
            <a:ext cx="3341880" cy="2363760"/>
          </a:xfrm>
          <a:prstGeom prst="rect">
            <a:avLst/>
          </a:prstGeom>
          <a:ln w="0">
            <a:noFill/>
          </a:ln>
        </p:spPr>
      </p:pic>
      <p:pic>
        <p:nvPicPr>
          <p:cNvPr id="562"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D2EA1D-D9ED-4D48-A558-3ABDE97602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9B0FC28-8F41-458B-99CC-589863D15C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99F8AC-BCB2-41B6-9B4A-EC66850164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806DCB1-6E8A-4946-976D-40A6EDE91B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1DE3BB-CF15-4EA9-8662-AA793A5DA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30D81C-92DF-47AE-95A3-3CB543E083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4"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7" name="Picture 2" descr=""/>
          <p:cNvPicPr/>
          <p:nvPr/>
        </p:nvPicPr>
        <p:blipFill>
          <a:blip r:embed="rId1"/>
          <a:stretch/>
        </p:blipFill>
        <p:spPr>
          <a:xfrm>
            <a:off x="3279600" y="2598840"/>
            <a:ext cx="4133880" cy="734760"/>
          </a:xfrm>
          <a:prstGeom prst="rect">
            <a:avLst/>
          </a:prstGeom>
          <a:ln w="0">
            <a:noFill/>
          </a:ln>
        </p:spPr>
      </p:pic>
      <p:sp>
        <p:nvSpPr>
          <p:cNvPr id="18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B06F1F-D814-4177-94A0-9641A80183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3"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4"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5"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B6FD3F-BFE0-4B61-A020-DE2501497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2"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828BE4-B95D-466D-B737-4C4113C25D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91D3DD-BF57-4B90-9D38-71FAD50586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6"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7"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BE50E4-445C-43D1-9328-F8658E40D0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2"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3"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6677EA-B1D9-48DC-A2A7-6D68B7D58C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8"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9D9885-ACA9-4BB9-ADD0-C2FA043EC9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0002B5-AD2C-4CDB-B590-B57A4D9596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6"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E07730-7F4D-423C-8F4A-62F8379E8F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0"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1"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2"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6A9DE2-9E37-4B3B-924D-907146AB2D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echteck 5"/>
          <p:cNvSpPr/>
          <p:nvPr/>
        </p:nvSpPr>
        <p:spPr>
          <a:xfrm>
            <a:off x="105264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3E831B-0495-4662-9A94-0D71A8D583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1"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2" name="Rechteck 4"/>
          <p:cNvSpPr/>
          <p:nvPr/>
        </p:nvSpPr>
        <p:spPr>
          <a:xfrm>
            <a:off x="5600880" y="3463920"/>
            <a:ext cx="435420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3"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4"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6"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9A1CB5-1FDF-4C3B-9E69-8C93DC6FC7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9"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0"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2E171A-C24C-4211-AE7B-E161D77B27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5" name="Rechteck 5"/>
          <p:cNvSpPr/>
          <p:nvPr/>
        </p:nvSpPr>
        <p:spPr>
          <a:xfrm>
            <a:off x="1085760" y="4057560"/>
            <a:ext cx="885528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AB9A6E-3254-4FFA-BC4B-46B94625D7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BB03CE-11AE-452C-BC47-037E45381B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0"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1"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D22719-92C0-460E-962A-7BC4D2DBD6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6"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7"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F72324-A9F8-4C1F-AF1C-8D08E7D6C0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2"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260B98-08CE-47B3-872A-2FC5425DB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7"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7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9F01DC-0B01-4534-9B83-5ABA190DA3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2"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3"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059DCF-2CB9-459A-B47B-434C177D5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8"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3A7FC3-363B-4715-8998-5AA4366ED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3"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4"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C3D99E-0231-43FB-A529-72788ED629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99"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3238C4-7E9D-4930-8480-4B3A2949F4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4"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5"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0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08" name="Picture 2" descr=""/>
          <p:cNvPicPr/>
          <p:nvPr/>
        </p:nvPicPr>
        <p:blipFill>
          <a:blip r:embed="rId1"/>
          <a:stretch/>
        </p:blipFill>
        <p:spPr>
          <a:xfrm>
            <a:off x="3279600" y="2598840"/>
            <a:ext cx="4133880" cy="734760"/>
          </a:xfrm>
          <a:prstGeom prst="rect">
            <a:avLst/>
          </a:prstGeom>
          <a:ln w="0">
            <a:noFill/>
          </a:ln>
        </p:spPr>
      </p:pic>
      <p:sp>
        <p:nvSpPr>
          <p:cNvPr id="30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179D21-72B4-4DE1-926F-CCBC08FEAB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C31A58-2D07-4B79-8F8E-CAC4AF3FD0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4"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B5DBDD-B7E0-4C7C-BB7A-F2AE8D4CFA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2564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331438-2848-4E9E-828A-DC7F7991A8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23"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0020B0-FE5D-4AF5-A562-A7AA918D36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94B7B8-2AD9-4044-94BF-B2087CEFB9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Rechteck 4"/>
          <p:cNvSpPr/>
          <p:nvPr/>
        </p:nvSpPr>
        <p:spPr>
          <a:xfrm>
            <a:off x="108576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B2ED12D-5267-45E4-BE70-606F73676C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AFEAB7-E817-4D85-B13C-839A32DE5D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423EFC-FF5C-48FC-B249-598CF9AE29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8576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4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46" name="Picture 2" descr=""/>
          <p:cNvPicPr/>
          <p:nvPr/>
        </p:nvPicPr>
        <p:blipFill>
          <a:blip r:embed="rId1"/>
          <a:stretch/>
        </p:blipFill>
        <p:spPr>
          <a:xfrm>
            <a:off x="3279600" y="2598840"/>
            <a:ext cx="4133880" cy="734760"/>
          </a:xfrm>
          <a:prstGeom prst="rect">
            <a:avLst/>
          </a:prstGeom>
          <a:ln w="0">
            <a:noFill/>
          </a:ln>
        </p:spPr>
      </p:pic>
      <p:sp>
        <p:nvSpPr>
          <p:cNvPr id="34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9E7F3C-2B85-4C23-8DB0-927CC2E22E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0FA2CA-0D3A-4BCB-B9B8-DB281D1D8D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876F82-EA8A-4616-9727-024802054C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AB95A8-56ED-4A6F-8DBE-74F5E8B99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1"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AE64315-E07E-40E0-B3ED-4DA5ECA715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436BA6-BBB3-42CE-8F8F-A7253D6A10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71ACFD-EA7C-416C-889D-4A47196B98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E6ACBE-3E08-42FE-B82D-AF5090228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A174A9-ECCE-4B9C-8DD9-0B9CAB6E72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6C853B-4454-42A7-9C16-F8C3CBFC91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C8F130-9402-44CE-A402-74B0AAE83B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88"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49D591-4F1E-4256-920A-D9B7E9E10C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2"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337386-F010-419D-843B-C6A34C992E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D10994-CFC3-462A-8946-B479B876F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71B0F7-6382-4E79-8BC5-092681E20D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69101E-9D3B-4190-BEBB-D27E0523A2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80EC82-8035-4A59-817E-3268C84F80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1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11" name="Picture 2" descr=""/>
          <p:cNvPicPr/>
          <p:nvPr/>
        </p:nvPicPr>
        <p:blipFill>
          <a:blip r:embed="rId1"/>
          <a:stretch/>
        </p:blipFill>
        <p:spPr>
          <a:xfrm>
            <a:off x="3279600" y="2598840"/>
            <a:ext cx="4133880" cy="734760"/>
          </a:xfrm>
          <a:prstGeom prst="rect">
            <a:avLst/>
          </a:prstGeom>
          <a:ln w="0">
            <a:noFill/>
          </a:ln>
        </p:spPr>
      </p:pic>
      <p:sp>
        <p:nvSpPr>
          <p:cNvPr id="41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C8561C-269D-46DD-8854-8A1BFEF435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B1AE6FF-0870-4E28-BD83-2BF1C9A9BB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F9EE0D-B1BA-46F5-B0CE-B206160A8D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1148B6-73DD-46EF-A87A-7D8A6D8482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B8DF30-7BAD-49DC-8797-BE87C4A03D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8FF0A0-1345-4975-9902-60EEE7F62F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889F3E-ABC8-44A0-9953-80FD56389A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DDC083-338F-44A0-A918-BC6E460578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A8CFF0-622B-4E15-B347-F89582E651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45"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13835F-9E6C-427E-A809-3D9069114C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9"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50"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1DF720-498D-4875-8DA5-466B5337D2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55"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57"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B0F488-9281-4BD4-B222-BBE2C882A4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2AC7BF-FE86-4190-9956-C5DF485C7C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Rechteck 5"/>
          <p:cNvSpPr/>
          <p:nvPr/>
        </p:nvSpPr>
        <p:spPr>
          <a:xfrm>
            <a:off x="1052640" y="480708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64"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B5AF6ED-DEC0-4234-823F-E0EAD85347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A3162F-D133-4D71-A37C-F55A8B9B9D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AA9C77-B588-422B-8288-71F792903E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 store[1], stor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7DBC33E-E62F-4AD8-9467-CE8ACFD864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E02FDD-5099-4E54-81A2-0EB641F8FE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85"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8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8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692932-897D-4461-A52F-92E661E580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9"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490"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9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9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2AB316-73D4-4A83-9661-4D59CF358D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A9A7B5-E4BA-4CEB-AC64-0BC310E2AA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0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0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33B6A9-4ED1-403E-98C9-3B47C69B1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D7E580-2A87-438F-AB26-A0FAF8DA5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E73FB6-BD0C-4FCB-9B21-7E0C16DC09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D67FD5-5993-4119-8555-EBC8D74FEB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85760" y="262728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22C5B6-58F9-4810-872D-604D5E976F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4BADB3-BCCE-4A46-8229-910EBE4570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2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21" name="Picture 2" descr=""/>
          <p:cNvPicPr/>
          <p:nvPr/>
        </p:nvPicPr>
        <p:blipFill>
          <a:blip r:embed="rId1"/>
          <a:stretch/>
        </p:blipFill>
        <p:spPr>
          <a:xfrm>
            <a:off x="3279600" y="2598840"/>
            <a:ext cx="4133880" cy="734760"/>
          </a:xfrm>
          <a:prstGeom prst="rect">
            <a:avLst/>
          </a:prstGeom>
          <a:ln w="0">
            <a:noFill/>
          </a:ln>
        </p:spPr>
      </p:pic>
      <p:sp>
        <p:nvSpPr>
          <p:cNvPr id="52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879A74-C66D-4992-933D-CE70497801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5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A264F4E-40B9-4E6D-AC96-69A569745F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3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31" name="Picture 2" descr=""/>
          <p:cNvPicPr/>
          <p:nvPr/>
        </p:nvPicPr>
        <p:blipFill>
          <a:blip r:embed="rId1"/>
          <a:stretch/>
        </p:blipFill>
        <p:spPr>
          <a:xfrm>
            <a:off x="3279600" y="2598840"/>
            <a:ext cx="4133880" cy="734760"/>
          </a:xfrm>
          <a:prstGeom prst="rect">
            <a:avLst/>
          </a:prstGeom>
          <a:ln w="0">
            <a:noFill/>
          </a:ln>
        </p:spPr>
      </p:pic>
      <p:sp>
        <p:nvSpPr>
          <p:cNvPr id="53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ECF871-C8DA-4A9E-948D-8E7510B207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6"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04E97E-59AC-431D-9F96-0408D652C5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F4CCA6A-B918-4FC4-8572-3F41ADD205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280711-F650-4A36-A4A0-B85712EC1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5C08BF6-633F-4A6B-AB3D-0635D6BF42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0"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5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BFEF6E-D1A7-4BFF-8F1A-FDCEA3B45E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3" name=""/>
          <p:cNvGraphicFramePr/>
          <p:nvPr/>
        </p:nvGraphicFramePr>
        <p:xfrm>
          <a:off x="1052640" y="1905120"/>
          <a:ext cx="9190080" cy="1631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2-12-09T11:48:44Z</dcterms:modified>
  <cp:revision>698</cp:revision>
  <dc:subject/>
  <dc:title>Agena Language Summary</dc:title>
</cp:coreProperties>
</file>