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41001"/>
        <c:axId val="30446086"/>
      </c:barChart>
      <c:catAx>
        <c:axId val="22541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46086"/>
        <c:crosses val="autoZero"/>
        <c:auto val="1"/>
        <c:lblAlgn val="ctr"/>
        <c:lblOffset val="100"/>
        <c:noMultiLvlLbl val="0"/>
      </c:catAx>
      <c:valAx>
        <c:axId val="304460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41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929C-8A9B-4D2C-8D8F-BA06E156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45C1-B5C3-4C25-9074-FB09B02C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416D-D2BE-4337-8EC7-1423FCB0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51E-4CFE-4AD0-966A-81A9E53D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695A-9E01-4735-AE22-70F9E3CB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1527-12B3-4B2D-ACC9-D16D7E4F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AE0E-2663-4704-9C9C-87D54327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68B-5AF4-44C9-913D-B813D89E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F77-7E30-4F16-B7EB-B772451A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696A-7877-4DC1-A798-C5DDA9FE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7D4-C3A1-4B47-9E51-7566B442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BA2B-2F79-4A10-A94E-A59774CB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4EAA5-6C1F-496B-96E1-1EBE9224A5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