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28026"/>
        <c:axId val="31021443"/>
      </c:barChart>
      <c:catAx>
        <c:axId val="97228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1443"/>
        <c:crosses val="autoZero"/>
        <c:auto val="1"/>
        <c:lblAlgn val="ctr"/>
        <c:lblOffset val="100"/>
        <c:noMultiLvlLbl val="0"/>
      </c:catAx>
      <c:valAx>
        <c:axId val="31021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28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DC9-FFD9-4428-A7E1-FF7AA316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621-9A12-472D-A077-7675FC81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EE1-8931-4D0F-8044-46A78825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243-A35C-456A-9A8B-48D136F3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58E-45CA-4241-8FC8-B39FC1E8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CE8-A4CA-433D-B7F5-F3C51D26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D41-6254-44BB-84F6-7957B7AD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608-FDF8-434C-9A50-53F851DA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112-521C-4973-858F-71BCF8EC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6BC-4EB8-4171-A50F-A6A6D98A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851-0689-4C53-907F-4A8F147C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20B-DF14-4FC6-92FF-E24DE4ED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A486E-6220-4F16-B100-C7540C14D4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