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00633"/>
        <c:axId val="42386828"/>
      </c:barChart>
      <c:catAx>
        <c:axId val="58300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86828"/>
        <c:crosses val="autoZero"/>
        <c:auto val="1"/>
        <c:lblAlgn val="ctr"/>
        <c:lblOffset val="100"/>
        <c:noMultiLvlLbl val="0"/>
      </c:catAx>
      <c:valAx>
        <c:axId val="42386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0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394-77EA-4A6F-9758-7A2C9B9B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415-5665-4D15-B7CA-E1ADEDB5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384-EC99-4190-B4E2-7CBD846E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134-FDD1-4D4D-80FD-262AC874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83A-456E-49D8-AF93-092870BE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A3D-2115-4414-A3CD-CA3FC195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F5F-809E-4156-B45E-A56F857A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EE2-27FF-4F68-8681-36518FB7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B8D-B375-4940-807D-FD835280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051-1D3F-4B53-AB49-38639CB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46A-3C09-4917-9698-B53FA5F0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FD3-3811-40D5-AA0F-A17F54E3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57136-F013-45B0-AEEE-2A4CF6CE7E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