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86654"/>
        <c:axId val="519822"/>
      </c:barChart>
      <c:catAx>
        <c:axId val="80986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822"/>
        <c:crosses val="autoZero"/>
        <c:auto val="1"/>
        <c:lblAlgn val="ctr"/>
        <c:lblOffset val="100"/>
        <c:noMultiLvlLbl val="0"/>
      </c:catAx>
      <c:valAx>
        <c:axId val="519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86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982-B43D-4A56-8623-8084C9F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8FB-C52A-4D1A-A146-749FF09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0A3-505D-4360-89D1-A53EFC11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9F2-E0CD-4238-9B53-0A050406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1F1-DA30-4C62-A926-23ECBCDA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01E-48A9-4C22-9EAA-342965A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29A-00D2-4AE0-95F9-162843F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329-2D1F-4FAA-BA05-C70B8A4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455-EEF1-41B5-9AF4-0DB97BA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EC2-B6D0-42B7-A855-70BF18E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59F-016B-4A1D-A592-0047650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8CB-AAD2-4DE3-ADB5-B33D011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97AFE-87B8-48FD-A022-A8C0EE479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