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69945"/>
        <c:axId val="73259090"/>
      </c:barChart>
      <c:catAx>
        <c:axId val="67969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59090"/>
        <c:crosses val="autoZero"/>
        <c:auto val="1"/>
        <c:lblAlgn val="ctr"/>
        <c:lblOffset val="100"/>
        <c:noMultiLvlLbl val="0"/>
      </c:catAx>
      <c:valAx>
        <c:axId val="73259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69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7D4-C141-43EE-AF87-9EC2380B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C82-E76E-491E-ACD4-340FDF29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349-C109-4D7A-B24D-30CD0CFE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BA5-1035-4F5B-B8CA-77E6A601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440-7F34-4AC7-8250-674F3536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2FA-7E08-4262-802E-18D8EE09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264-1E5C-4D55-B249-FFBD9210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686-ADF1-494A-991F-0BBC8A5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8F8-7D4C-4351-B561-B0EF9D61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FAE-A24C-44D6-ABF8-CBCC23E9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72A-ECE2-4D8C-AF6C-4ABF29A4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62F-099B-466B-95F1-F7677503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4BF50-8761-4E4F-A13C-CAB90CA38E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