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5301"/>
        <c:axId val="56317692"/>
      </c:barChart>
      <c:catAx>
        <c:axId val="7045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7692"/>
        <c:crosses val="autoZero"/>
        <c:auto val="1"/>
        <c:lblAlgn val="ctr"/>
        <c:lblOffset val="100"/>
        <c:noMultiLvlLbl val="0"/>
      </c:catAx>
      <c:valAx>
        <c:axId val="56317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5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1E3-62CF-4D1A-8736-EE69B02A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D81-9CE3-48EC-B379-00D77E2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AAF-BC9A-44CA-8C9E-8C18EFB3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0FA-76FB-46A8-8F01-6E8159DE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043-D274-41D7-8C40-74B87E77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C0D-B8C2-410D-90CB-F1B818AE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580-1BF2-4B3F-B76C-7F340CE4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3CD-3704-419D-B9E7-AAF9CBAD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B71-5598-4467-9D24-BDC455D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DC0-8C9A-4E02-B8A3-84D95FE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AF1-50A2-4AB7-95BE-1771FCBA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0FE-A258-4558-B4C9-F296206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C59B4-5886-43D7-8928-D03426D29D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