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85724"/>
        <c:axId val="21288646"/>
      </c:barChart>
      <c:catAx>
        <c:axId val="58785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88646"/>
        <c:crosses val="autoZero"/>
        <c:auto val="1"/>
        <c:lblAlgn val="ctr"/>
        <c:lblOffset val="100"/>
        <c:noMultiLvlLbl val="0"/>
      </c:catAx>
      <c:valAx>
        <c:axId val="21288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85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D5E-35DB-4A85-801D-1F16DEE2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2C2-2404-4936-9210-FA1EB647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32E-E83F-49D3-982C-2E9B86E7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3DAB-CC99-46C6-9609-9E90ABF9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815-E9C0-42DE-A517-B868550E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94D-58C3-4D2B-AFF4-96982D28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82C-E2DF-46E2-BE55-626B23A1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183-305F-4D4F-BFE0-9BBA9A81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540-8A4A-43B9-B847-A4C9A7EB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DC8-07B7-4575-A213-FAC1AC3D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447-4B53-4BD1-B14F-D057E3EE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0CA-D6C9-4618-B618-6F24B0D8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89BEE-620F-4661-B0BF-AEC581CE14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