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33084"/>
        <c:axId val="3143494"/>
      </c:barChart>
      <c:catAx>
        <c:axId val="54330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3494"/>
        <c:crosses val="autoZero"/>
        <c:auto val="1"/>
        <c:lblAlgn val="ctr"/>
        <c:lblOffset val="100"/>
        <c:noMultiLvlLbl val="0"/>
      </c:catAx>
      <c:valAx>
        <c:axId val="31434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30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26E-55BB-4598-B44C-DF91536C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B51-4522-459D-AB3F-DCC026D0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434D-B10B-4C06-9D94-633819E9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890-C47C-46C9-97D5-9E4CF03A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65B-D0C0-4505-879D-EDACCE0A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3538-70A8-4ADA-A160-BDB81941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6C7-A423-4392-9C1E-153BF43D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4279-79C5-4CE2-A2F5-C28CCFFD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1635-4972-44F8-9B26-37F5F661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4B15-8203-4732-A028-62C270B4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7F1-0A0F-40EB-8C57-1D19A416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1B11-89FD-43DE-852A-82279E2E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73B98-9773-48CE-9E15-850AF15380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