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22443"/>
        <c:axId val="99882775"/>
      </c:barChart>
      <c:catAx>
        <c:axId val="52722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2775"/>
        <c:crosses val="autoZero"/>
        <c:auto val="1"/>
        <c:lblAlgn val="ctr"/>
        <c:lblOffset val="100"/>
        <c:noMultiLvlLbl val="0"/>
      </c:catAx>
      <c:valAx>
        <c:axId val="99882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22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A1B-23E9-440A-92E9-5BFA14BA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E9A-E673-41DB-A566-17E082F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A80-ABBC-4467-800B-7F1CF9B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A10-CA4B-46DC-BD8E-26FDFCD3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EF3-5B4A-4BD9-AF37-D507840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DDD-BBC5-40D3-BBFD-1AB5018C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643-A195-4A85-8D4F-79EBA05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766-296C-4F53-ADEC-009663D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4C9-C26F-40DE-881B-5A84878F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E89-D55D-4C31-BB6C-9B0A18F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A98-C6AF-45E3-8F2E-4C2CB9B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E7C-625B-447F-8311-3811462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9878-0408-49CC-9971-B86846DA0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