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45920"/>
        <c:axId val="21296767"/>
      </c:barChart>
      <c:catAx>
        <c:axId val="30045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96767"/>
        <c:crosses val="autoZero"/>
        <c:auto val="1"/>
        <c:lblAlgn val="ctr"/>
        <c:lblOffset val="100"/>
        <c:noMultiLvlLbl val="0"/>
      </c:catAx>
      <c:valAx>
        <c:axId val="21296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45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38E-5884-4845-B555-9D2BFE49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912-EC84-4AEC-BFDD-B468C175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DF6-ED9A-4600-B852-E55B81F4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E01-A9B6-4852-A551-84874BB5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61A-3801-486C-8DDD-80C3D02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56E-C917-4657-86AD-CDF08EE8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F21-67CE-4BF4-B2D5-373C155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608-6103-4419-9F2A-56D098F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BA2-0FD5-418F-992D-412ABDDB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C39-F1D8-497A-B35E-67EE8DB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FC7-DDB9-4B8E-85E3-8C3E69A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BB6-8E90-4E45-AB31-F6F8D86E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C4EDA-F6EB-4451-AC64-C25D81AF93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