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776255"/>
        <c:axId val="80629480"/>
      </c:barChart>
      <c:catAx>
        <c:axId val="957762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629480"/>
        <c:crosses val="autoZero"/>
        <c:auto val="1"/>
        <c:lblAlgn val="ctr"/>
        <c:lblOffset val="100"/>
        <c:noMultiLvlLbl val="0"/>
      </c:catAx>
      <c:valAx>
        <c:axId val="806294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7762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9CB9-A699-4A20-AEAD-6E7C498D8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32F5-EC72-4CCD-B62F-0C665CF7E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3030-0B50-41CE-A8A6-93832A168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A0A8-BDD4-4A0E-A77F-C11F3EA93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FFA1-F792-4605-AC0D-9900EB0EF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3F44-1C9D-44B4-8875-1DE075870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2DF8-297D-4069-A00E-3AB658808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DED8-FECA-425A-B1FD-035730215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4D60-FC3A-415A-A5D4-677EDE18B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1709-059F-45D1-8F44-0C2C41B2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A440-E4AF-4638-80DD-01F775B1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C4F3-204C-4582-970F-819B2D19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93A979-D31F-45EA-8409-27FB504B804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