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62637"/>
        <c:axId val="75287499"/>
      </c:barChart>
      <c:catAx>
        <c:axId val="10362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87499"/>
        <c:crosses val="autoZero"/>
        <c:auto val="1"/>
        <c:lblAlgn val="ctr"/>
        <c:lblOffset val="100"/>
        <c:noMultiLvlLbl val="0"/>
      </c:catAx>
      <c:valAx>
        <c:axId val="75287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62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673-F38C-46AF-9C42-EFDE84CC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CDF-1AF9-4C70-A6EA-F843B24E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8FC-E300-4D4A-BD62-86E52A35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F18-B2EC-4087-AF25-380C0A4E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8AD-CE5D-40BF-A10A-7D0AD1DD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952-2B97-4E64-A448-3AA9A029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B24-F0C7-48CA-915C-D5B3FD68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188-5D07-40E5-B0FA-EA4D5321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1B1-5C19-4936-AB14-E9D21D3E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57A-3570-45B8-9ECF-76E2C96D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9F5-1FE7-408C-94FC-8E1392DE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157-18D1-4053-A971-661D7130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0F62D-FE84-4DC8-88AC-D83D4BBB26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